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53C-F90E-40F3-AF50-FDB6C896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0E33-3461-4EB3-B753-27516F30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6384-37AC-477A-A6EC-B7BB9FFA7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790-679E-4788-B908-7CFEE0DD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F8C-C873-4608-B8FD-6A16D18B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A49-E250-4C18-8AA8-2F39AE0B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F8E-3277-49E4-A7E8-26665C1A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2CB-94E6-4A3C-AB6E-2050A01E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83C-DEA4-49F9-9E81-15EAA8EE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6AC-0B59-43B0-89D9-179A8038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3281-125C-4ADE-90BC-9155EA35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8AF-318F-418C-AAA9-4D7278FF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016A-65BA-41D1-A186-C28941932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alskappa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93960" y="83808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erskap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6760" y="152388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arrs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3760" y="30481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ha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5000" y="152388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yla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362320"/>
            <a:ext cx="7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21680" y="19051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rvik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5720" y="45720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j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4680" y="28954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atl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6120" y="327672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jarn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6480" y="18288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lf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5360" y="403848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jorvlik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0920" y="53352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5320" y="17524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1800" y="2666880"/>
            <a:ext cx="3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920" y="990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7280" y="36576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6600" y="2743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9600" y="16002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8200" y="22860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Nj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1840" y="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Fjoln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60" y="25146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Sk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60680" y="380988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. Of Yarosla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5080" y="20574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 Galar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5600" y="31240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all L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4800" y="6248520"/>
            <a:ext cx="5915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olkie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olkie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juvik – Jarl Olfjor “the Old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Roslagen – King Hruthvar Thorgrimson “The Black Bear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jolgrum – Jarl Thorj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drud – Jarl Hrath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Jokkenjoen – Jarl Thorkel “The Wis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Hjarring – Jarl Njal Stromen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ngarr – Jarl Uldvi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419720"/>
            <a:ext cx="609480" cy="76176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7600" y="41911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7240" y="5105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17760" y="5181480"/>
            <a:ext cx="1561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The Great I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5 Days Jour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olkien"/>
              </a:rPr>
              <a:t>S-S-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7T18:57:37Z</dcterms:created>
  <dc:creator>Henry and Kristin</dc:creator>
  <dc:description/>
  <dc:language>en-US</dc:language>
  <cp:lastModifiedBy>Henry and Kristin</cp:lastModifiedBy>
  <dcterms:modified xsi:type="dcterms:W3CDTF">2000-09-01T01:04:11Z</dcterms:modified>
  <cp:revision>2</cp:revision>
  <dc:subject/>
  <dc:title>PowerPoint Presentation</dc:title>
</cp:coreProperties>
</file>